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1.png" ContentType="image/png"/>
  <Override PartName="/ppt/media/image29.wmf" ContentType="image/x-wmf"/>
  <Override PartName="/ppt/media/image71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19.wmf" ContentType="image/x-wmf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78.wmf" ContentType="image/x-wmf"/>
  <Override PartName="/ppt/media/image66.wmf" ContentType="image/x-wmf"/>
  <Override PartName="/ppt/media/image77.wmf" ContentType="image/x-wmf"/>
  <Override PartName="/ppt/media/image76.wmf" ContentType="image/x-wmf"/>
  <Override PartName="/ppt/media/image40.wmf" ContentType="image/x-wmf"/>
  <Override PartName="/ppt/media/image6.png" ContentType="image/png"/>
  <Override PartName="/ppt/media/image75.wmf" ContentType="image/x-wmf"/>
  <Override PartName="/ppt/media/image5.png" ContentType="image/png"/>
  <Override PartName="/ppt/media/image74.wmf" ContentType="image/x-wmf"/>
  <Override PartName="/ppt/media/image4.png" ContentType="image/png"/>
  <Override PartName="/ppt/media/image73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20.wmf" ContentType="image/x-wmf"/>
  <Override PartName="/ppt/media/image57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8.wmf" ContentType="image/x-wmf"/>
  <Override PartName="/ppt/media/image38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wmf" ContentType="image/x-wmf"/>
  <Override PartName="/ppt/media/image79.gif" ContentType="image/gif"/>
  <Override PartName="/ppt/media/image39.wmf" ContentType="image/x-wmf"/>
  <Override PartName="/ppt/media/image12.wmf" ContentType="image/x-wmf"/>
  <Override PartName="/ppt/media/image49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6.docx" ContentType="application/vnd.openxmlformats-officedocument.wordprocessingml.documen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AD7D-F2C1-4BA4-B603-9FB82909DE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D7CC-93EC-4674-AF3F-15684F1DAD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7B5-2806-4A84-BE16-C1B1DDC5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514-923F-4A78-A755-4B374FDE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E5A-2B7C-48B6-BC42-7806417D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EDA-7C2B-47D8-BF94-CAA20DD7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9FD-7E48-41B4-90AB-46D89109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6A4-EA49-4614-A236-B97831A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8FD-DE46-4B64-8BA4-C1A47FF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A74-7525-477F-8EE6-D2CE95E9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728-3FA1-46BE-951C-A594CC84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C84-F5F6-4219-8C60-8D121AB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156-2A71-400E-A4A6-1805282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E25-F10B-45FD-BA3B-27033D0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ABC-73CC-4E2C-BF77-43C4DCF997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8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6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6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8.wmf"/><Relationship Id="rId10" Type="http://schemas.openxmlformats.org/officeDocument/2006/relationships/image" Target="../media/image79.gi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4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25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26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27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31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32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33.wmf"/><Relationship Id="rId17" Type="http://schemas.openxmlformats.org/officeDocument/2006/relationships/package" Target="../embeddings/oleObject6.docx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5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771640" y="30924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3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函数连续性的概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3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初等函数的连续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9" name="Object 2"/>
          <p:cNvGraphicFramePr/>
          <p:nvPr/>
        </p:nvGraphicFramePr>
        <p:xfrm>
          <a:off x="855720" y="1268280"/>
          <a:ext cx="7748640" cy="170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5720" y="1268280"/>
                    <a:ext cx="7748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9" name="Object 29"/>
          <p:cNvGraphicFramePr/>
          <p:nvPr/>
        </p:nvGraphicFramePr>
        <p:xfrm>
          <a:off x="684360" y="1700280"/>
          <a:ext cx="7897680" cy="2550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0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1700280"/>
                    <a:ext cx="789768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30"/>
          <p:cNvGraphicFramePr/>
          <p:nvPr/>
        </p:nvGraphicFramePr>
        <p:xfrm>
          <a:off x="1541520" y="3860640"/>
          <a:ext cx="6126120" cy="2305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2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1520" y="3860640"/>
                    <a:ext cx="6126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7" name="Object 2"/>
          <p:cNvGraphicFramePr/>
          <p:nvPr/>
        </p:nvGraphicFramePr>
        <p:xfrm>
          <a:off x="971640" y="1052640"/>
          <a:ext cx="7554960" cy="1187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1052640"/>
                    <a:ext cx="755496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6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7" name="Object 30"/>
          <p:cNvGraphicFramePr/>
          <p:nvPr/>
        </p:nvGraphicFramePr>
        <p:xfrm>
          <a:off x="1042920" y="2060640"/>
          <a:ext cx="7378920" cy="216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6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060640"/>
                    <a:ext cx="73789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28"/>
          <p:cNvGraphicFramePr/>
          <p:nvPr/>
        </p:nvGraphicFramePr>
        <p:xfrm>
          <a:off x="1116000" y="4292640"/>
          <a:ext cx="702000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1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16000" y="4292640"/>
                    <a:ext cx="7020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826920" y="1341360"/>
          <a:ext cx="7417080" cy="4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341360"/>
                    <a:ext cx="74170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6"/>
          <p:cNvSpPr/>
          <p:nvPr/>
        </p:nvSpPr>
        <p:spPr>
          <a:xfrm>
            <a:off x="847440" y="23932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5"/>
          <p:cNvGraphicFramePr/>
          <p:nvPr/>
        </p:nvGraphicFramePr>
        <p:xfrm>
          <a:off x="2268360" y="2276640"/>
          <a:ext cx="19432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8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2276640"/>
                    <a:ext cx="1943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9"/>
          <p:cNvSpPr/>
          <p:nvPr/>
        </p:nvSpPr>
        <p:spPr>
          <a:xfrm>
            <a:off x="722520" y="3322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6"/>
          <p:cNvGraphicFramePr/>
          <p:nvPr/>
        </p:nvGraphicFramePr>
        <p:xfrm>
          <a:off x="1730520" y="3201840"/>
          <a:ext cx="315720" cy="76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30520" y="3201840"/>
                    <a:ext cx="315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2"/>
          <p:cNvSpPr/>
          <p:nvPr/>
        </p:nvSpPr>
        <p:spPr>
          <a:xfrm>
            <a:off x="2365560" y="3322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入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3711600" y="3354480"/>
          <a:ext cx="2170080" cy="434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1600" y="3354480"/>
                    <a:ext cx="21700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5"/>
          <p:cNvSpPr/>
          <p:nvPr/>
        </p:nvSpPr>
        <p:spPr>
          <a:xfrm>
            <a:off x="6207480" y="332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，函数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8"/>
          <p:cNvGraphicFramePr/>
          <p:nvPr/>
        </p:nvGraphicFramePr>
        <p:xfrm>
          <a:off x="2873520" y="3811680"/>
          <a:ext cx="3886200" cy="73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73520" y="3811680"/>
                    <a:ext cx="388620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8"/>
          <p:cNvSpPr/>
          <p:nvPr/>
        </p:nvSpPr>
        <p:spPr>
          <a:xfrm>
            <a:off x="1401840" y="4679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9"/>
          <p:cNvGraphicFramePr/>
          <p:nvPr/>
        </p:nvGraphicFramePr>
        <p:xfrm>
          <a:off x="2195640" y="4653000"/>
          <a:ext cx="1752480" cy="866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95640" y="4653000"/>
                    <a:ext cx="17524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0"/>
          <p:cNvGraphicFramePr/>
          <p:nvPr/>
        </p:nvGraphicFramePr>
        <p:xfrm>
          <a:off x="4067280" y="4581360"/>
          <a:ext cx="1085760" cy="835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1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4581360"/>
                    <a:ext cx="10857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1"/>
          <p:cNvGraphicFramePr/>
          <p:nvPr/>
        </p:nvGraphicFramePr>
        <p:xfrm>
          <a:off x="5219640" y="4581360"/>
          <a:ext cx="1067040" cy="835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1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19640" y="4581360"/>
                    <a:ext cx="10670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3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6" name="Object 2"/>
          <p:cNvGraphicFramePr/>
          <p:nvPr/>
        </p:nvGraphicFramePr>
        <p:xfrm>
          <a:off x="755640" y="907920"/>
          <a:ext cx="7299360" cy="1668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907920"/>
                    <a:ext cx="7299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8" name="Picture 32" descr=""/>
          <p:cNvPicPr/>
          <p:nvPr/>
        </p:nvPicPr>
        <p:blipFill>
          <a:blip r:embed="rId8"/>
          <a:stretch/>
        </p:blipFill>
        <p:spPr>
          <a:xfrm>
            <a:off x="5292720" y="1628640"/>
            <a:ext cx="3664080" cy="2664000"/>
          </a:xfrm>
          <a:prstGeom prst="rect">
            <a:avLst/>
          </a:prstGeom>
          <a:ln w="0">
            <a:noFill/>
          </a:ln>
        </p:spPr>
      </p:pic>
      <p:sp>
        <p:nvSpPr>
          <p:cNvPr id="43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29"/>
          <p:cNvGraphicFramePr/>
          <p:nvPr/>
        </p:nvGraphicFramePr>
        <p:xfrm>
          <a:off x="539640" y="2924280"/>
          <a:ext cx="4994280" cy="89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1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2924280"/>
                    <a:ext cx="499428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30"/>
          <p:cNvGraphicFramePr/>
          <p:nvPr/>
        </p:nvGraphicFramePr>
        <p:xfrm>
          <a:off x="576360" y="4076640"/>
          <a:ext cx="7920000" cy="82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3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6360" y="4076640"/>
                    <a:ext cx="7920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31"/>
          <p:cNvGraphicFramePr/>
          <p:nvPr/>
        </p:nvGraphicFramePr>
        <p:xfrm>
          <a:off x="644400" y="5229360"/>
          <a:ext cx="7917120" cy="863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5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400" y="5229360"/>
                    <a:ext cx="7917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7" name="Object 2"/>
          <p:cNvGraphicFramePr/>
          <p:nvPr/>
        </p:nvGraphicFramePr>
        <p:xfrm>
          <a:off x="882720" y="979560"/>
          <a:ext cx="7299360" cy="115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2720" y="979560"/>
                    <a:ext cx="7299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28"/>
          <p:cNvGraphicFramePr/>
          <p:nvPr/>
        </p:nvGraphicFramePr>
        <p:xfrm>
          <a:off x="900000" y="1628640"/>
          <a:ext cx="634536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628640"/>
                    <a:ext cx="6345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29"/>
          <p:cNvGraphicFramePr/>
          <p:nvPr/>
        </p:nvGraphicFramePr>
        <p:xfrm>
          <a:off x="826920" y="2133720"/>
          <a:ext cx="785196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2133720"/>
                    <a:ext cx="785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6"/>
          <p:cNvSpPr/>
          <p:nvPr/>
        </p:nvSpPr>
        <p:spPr>
          <a:xfrm>
            <a:off x="3525480" y="30697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区间上的连续函数不一定有最大值和最小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879840" y="3607920"/>
            <a:ext cx="5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38"/>
          <p:cNvGraphicFramePr/>
          <p:nvPr/>
        </p:nvGraphicFramePr>
        <p:xfrm>
          <a:off x="1523880" y="3730680"/>
          <a:ext cx="914400" cy="398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7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3880" y="3730680"/>
                    <a:ext cx="914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10"/>
          <p:cNvSpPr/>
          <p:nvPr/>
        </p:nvSpPr>
        <p:spPr>
          <a:xfrm>
            <a:off x="3938400" y="3607920"/>
            <a:ext cx="18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无最大值和最小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801240" y="42937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闭区间上的非连续函数也不一定有最大值和最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947880" y="49795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39"/>
          <p:cNvGraphicFramePr/>
          <p:nvPr/>
        </p:nvGraphicFramePr>
        <p:xfrm>
          <a:off x="1600200" y="4797360"/>
          <a:ext cx="9144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82" name="Object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00200" y="4797360"/>
                    <a:ext cx="9144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15"/>
          <p:cNvSpPr/>
          <p:nvPr/>
        </p:nvSpPr>
        <p:spPr>
          <a:xfrm>
            <a:off x="4119120" y="5055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无最大值和最小值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5"/>
          <p:cNvGraphicFramePr/>
          <p:nvPr/>
        </p:nvGraphicFramePr>
        <p:xfrm>
          <a:off x="826920" y="1557360"/>
          <a:ext cx="7763040" cy="21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557360"/>
                    <a:ext cx="77630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9" name="Object 4"/>
          <p:cNvGraphicFramePr/>
          <p:nvPr/>
        </p:nvGraphicFramePr>
        <p:xfrm>
          <a:off x="690480" y="3144960"/>
          <a:ext cx="7683480" cy="2004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3144960"/>
                    <a:ext cx="768348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28"/>
          <p:cNvGraphicFramePr/>
          <p:nvPr/>
        </p:nvGraphicFramePr>
        <p:xfrm>
          <a:off x="620640" y="1557360"/>
          <a:ext cx="797400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0640" y="1557360"/>
                    <a:ext cx="797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861480" y="8870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650200" y="90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1587240" y="14140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个根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809640" y="22777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  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Object 2"/>
          <p:cNvGraphicFramePr/>
          <p:nvPr/>
        </p:nvGraphicFramePr>
        <p:xfrm>
          <a:off x="1835280" y="2205000"/>
          <a:ext cx="296064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2205000"/>
                    <a:ext cx="2960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14"/>
          <p:cNvSpPr/>
          <p:nvPr/>
        </p:nvSpPr>
        <p:spPr>
          <a:xfrm>
            <a:off x="5153400" y="2277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闭区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]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连续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5"/>
          <p:cNvSpPr/>
          <p:nvPr/>
        </p:nvSpPr>
        <p:spPr>
          <a:xfrm>
            <a:off x="755640" y="292536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=1&gt;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&lt;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6"/>
          <p:cNvSpPr/>
          <p:nvPr/>
        </p:nvSpPr>
        <p:spPr>
          <a:xfrm>
            <a:off x="4300920" y="292536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零点定理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928080" y="3646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少有一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517840" y="3581280"/>
          <a:ext cx="37764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17840" y="3581280"/>
                    <a:ext cx="377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Rectangle 20"/>
          <p:cNvSpPr/>
          <p:nvPr/>
        </p:nvSpPr>
        <p:spPr>
          <a:xfrm>
            <a:off x="3071520" y="36252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Object 4"/>
          <p:cNvGraphicFramePr/>
          <p:nvPr/>
        </p:nvGraphicFramePr>
        <p:xfrm>
          <a:off x="3965400" y="3581280"/>
          <a:ext cx="1395720" cy="497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1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5400" y="3581280"/>
                    <a:ext cx="139572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Rectangle 25"/>
          <p:cNvSpPr/>
          <p:nvPr/>
        </p:nvSpPr>
        <p:spPr>
          <a:xfrm>
            <a:off x="5371200" y="36111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5"/>
          <p:cNvGraphicFramePr/>
          <p:nvPr/>
        </p:nvGraphicFramePr>
        <p:xfrm>
          <a:off x="3124080" y="4219560"/>
          <a:ext cx="2438640" cy="58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4219560"/>
                    <a:ext cx="24386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Rectangle 28"/>
          <p:cNvSpPr/>
          <p:nvPr/>
        </p:nvSpPr>
        <p:spPr>
          <a:xfrm>
            <a:off x="981720" y="49420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等式说明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Object 6"/>
          <p:cNvGraphicFramePr/>
          <p:nvPr/>
        </p:nvGraphicFramePr>
        <p:xfrm>
          <a:off x="2843280" y="4869000"/>
          <a:ext cx="2589120" cy="552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3280" y="4869000"/>
                    <a:ext cx="2589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33"/>
          <p:cNvSpPr/>
          <p:nvPr/>
        </p:nvSpPr>
        <p:spPr>
          <a:xfrm>
            <a:off x="5740920" y="496368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1206000" y="55908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少有一个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7"/>
          <p:cNvGraphicFramePr/>
          <p:nvPr/>
        </p:nvGraphicFramePr>
        <p:xfrm>
          <a:off x="2916360" y="5516640"/>
          <a:ext cx="380880" cy="50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2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5516640"/>
                    <a:ext cx="380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8"/>
          <p:cNvGraphicFramePr/>
          <p:nvPr/>
        </p:nvGraphicFramePr>
        <p:xfrm>
          <a:off x="2556000" y="836640"/>
          <a:ext cx="2589120" cy="552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4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56000" y="836640"/>
                    <a:ext cx="2589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6" name="Object 2"/>
          <p:cNvGraphicFramePr/>
          <p:nvPr/>
        </p:nvGraphicFramePr>
        <p:xfrm>
          <a:off x="971640" y="907920"/>
          <a:ext cx="7218360" cy="2503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721836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5"/>
          <p:cNvGraphicFramePr/>
          <p:nvPr/>
        </p:nvGraphicFramePr>
        <p:xfrm>
          <a:off x="882720" y="2567160"/>
          <a:ext cx="7218360" cy="3031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0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2720" y="2567160"/>
                    <a:ext cx="721836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9"/>
          <p:cNvGrpSpPr/>
          <p:nvPr/>
        </p:nvGrpSpPr>
        <p:grpSpPr>
          <a:xfrm>
            <a:off x="5796000" y="4508640"/>
            <a:ext cx="1906920" cy="714240"/>
            <a:chOff x="5796000" y="4508640"/>
            <a:chExt cx="1906920" cy="714240"/>
          </a:xfrm>
        </p:grpSpPr>
        <p:pic>
          <p:nvPicPr>
            <p:cNvPr id="612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5796000" y="4508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Box 22"/>
            <p:cNvSpPr/>
            <p:nvPr/>
          </p:nvSpPr>
          <p:spPr>
            <a:xfrm>
              <a:off x="6668640" y="458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7" name="Object 2"/>
          <p:cNvGraphicFramePr/>
          <p:nvPr/>
        </p:nvGraphicFramePr>
        <p:xfrm>
          <a:off x="1027080" y="1627200"/>
          <a:ext cx="7361280" cy="4538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27080" y="1627200"/>
                    <a:ext cx="736128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73200" y="1125360"/>
          <a:ext cx="7861320" cy="19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125360"/>
                    <a:ext cx="786132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8"/>
          <a:stretch/>
        </p:blipFill>
        <p:spPr>
          <a:xfrm>
            <a:off x="2411280" y="2637000"/>
            <a:ext cx="3861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Object 4"/>
          <p:cNvGraphicFramePr/>
          <p:nvPr/>
        </p:nvGraphicFramePr>
        <p:xfrm>
          <a:off x="650880" y="836640"/>
          <a:ext cx="7843680" cy="1892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0880" y="836640"/>
                    <a:ext cx="78436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30"/>
          <p:cNvGraphicFramePr/>
          <p:nvPr/>
        </p:nvGraphicFramePr>
        <p:xfrm>
          <a:off x="611280" y="1989000"/>
          <a:ext cx="7843680" cy="1892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784368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1"/>
          <p:cNvGraphicFramePr/>
          <p:nvPr/>
        </p:nvGraphicFramePr>
        <p:xfrm>
          <a:off x="650880" y="3933720"/>
          <a:ext cx="7843680" cy="1892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0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0880" y="3933720"/>
                    <a:ext cx="784368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3" name="Object 30"/>
          <p:cNvGraphicFramePr/>
          <p:nvPr/>
        </p:nvGraphicFramePr>
        <p:xfrm>
          <a:off x="1071720" y="3500280"/>
          <a:ext cx="6913440" cy="30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4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3500280"/>
                    <a:ext cx="6913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8"/>
          <p:cNvGraphicFramePr/>
          <p:nvPr/>
        </p:nvGraphicFramePr>
        <p:xfrm>
          <a:off x="6443640" y="1844640"/>
          <a:ext cx="115272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43640" y="184464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9"/>
          <p:cNvGraphicFramePr/>
          <p:nvPr/>
        </p:nvGraphicFramePr>
        <p:xfrm>
          <a:off x="6443640" y="2421000"/>
          <a:ext cx="115272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43640" y="242100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30"/>
          <p:cNvGraphicFramePr/>
          <p:nvPr/>
        </p:nvGraphicFramePr>
        <p:xfrm>
          <a:off x="5867280" y="2997360"/>
          <a:ext cx="2084400" cy="35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2997360"/>
                    <a:ext cx="20844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1"/>
          <p:cNvGraphicFramePr/>
          <p:nvPr/>
        </p:nvGraphicFramePr>
        <p:xfrm>
          <a:off x="684360" y="1268280"/>
          <a:ext cx="5759280" cy="2241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1268280"/>
                    <a:ext cx="575928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971640" y="907920"/>
          <a:ext cx="115236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1152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2268360" y="907920"/>
          <a:ext cx="1152720" cy="35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907920"/>
                    <a:ext cx="11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492360" y="907920"/>
          <a:ext cx="20844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907920"/>
                    <a:ext cx="2084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7"/>
          <p:cNvGraphicFramePr/>
          <p:nvPr/>
        </p:nvGraphicFramePr>
        <p:xfrm>
          <a:off x="900000" y="1628640"/>
          <a:ext cx="687600" cy="35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1628640"/>
                    <a:ext cx="6876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8"/>
          <p:cNvGraphicFramePr/>
          <p:nvPr/>
        </p:nvGraphicFramePr>
        <p:xfrm>
          <a:off x="1042920" y="1989000"/>
          <a:ext cx="2770200" cy="733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1989000"/>
                    <a:ext cx="27702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9"/>
          <p:cNvGraphicFramePr/>
          <p:nvPr/>
        </p:nvGraphicFramePr>
        <p:xfrm>
          <a:off x="971640" y="2852640"/>
          <a:ext cx="3813120" cy="84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2852640"/>
                    <a:ext cx="3813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0"/>
          <p:cNvGraphicFramePr/>
          <p:nvPr/>
        </p:nvGraphicFramePr>
        <p:xfrm>
          <a:off x="1042920" y="4076640"/>
          <a:ext cx="3459240" cy="1289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2920" y="4076640"/>
                    <a:ext cx="34592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1"/>
          <p:cNvGraphicFramePr/>
          <p:nvPr/>
        </p:nvGraphicFramePr>
        <p:xfrm>
          <a:off x="4356000" y="2133720"/>
          <a:ext cx="952560" cy="355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356000" y="2133720"/>
                    <a:ext cx="9525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12"/>
          <p:cNvGraphicFramePr/>
          <p:nvPr/>
        </p:nvGraphicFramePr>
        <p:xfrm>
          <a:off x="5508720" y="2133720"/>
          <a:ext cx="2458800" cy="355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08720" y="2133720"/>
                    <a:ext cx="2458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3"/>
          <p:cNvGraphicFramePr/>
          <p:nvPr/>
        </p:nvGraphicFramePr>
        <p:xfrm>
          <a:off x="4859280" y="3141720"/>
          <a:ext cx="952560" cy="355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59280" y="3141720"/>
                    <a:ext cx="952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4"/>
          <p:cNvGraphicFramePr/>
          <p:nvPr/>
        </p:nvGraphicFramePr>
        <p:xfrm>
          <a:off x="5796000" y="3141720"/>
          <a:ext cx="1484280" cy="355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96000" y="3141720"/>
                    <a:ext cx="1484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5"/>
          <p:cNvGraphicFramePr/>
          <p:nvPr/>
        </p:nvGraphicFramePr>
        <p:xfrm>
          <a:off x="7308720" y="3141720"/>
          <a:ext cx="1108080" cy="3556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79" name="Object 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308720" y="3141720"/>
                    <a:ext cx="1108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788000" y="4508640"/>
          <a:ext cx="2016000" cy="355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788000" y="4508640"/>
                    <a:ext cx="20160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7"/>
          <p:cNvGraphicFramePr/>
          <p:nvPr/>
        </p:nvGraphicFramePr>
        <p:xfrm>
          <a:off x="4643280" y="4941720"/>
          <a:ext cx="2546640" cy="355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83" name="Object 17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643280" y="4941720"/>
                    <a:ext cx="2546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8"/>
          <p:cNvGraphicFramePr/>
          <p:nvPr/>
        </p:nvGraphicFramePr>
        <p:xfrm>
          <a:off x="7236000" y="4941720"/>
          <a:ext cx="1108080" cy="3556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85" name="Object 18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236000" y="4941720"/>
                    <a:ext cx="11080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4"/>
          <p:cNvGraphicFramePr/>
          <p:nvPr/>
        </p:nvGraphicFramePr>
        <p:xfrm>
          <a:off x="898560" y="770040"/>
          <a:ext cx="7667640" cy="21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770040"/>
                    <a:ext cx="7667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Object 31"/>
          <p:cNvGraphicFramePr/>
          <p:nvPr/>
        </p:nvGraphicFramePr>
        <p:xfrm>
          <a:off x="755640" y="2492280"/>
          <a:ext cx="6481800" cy="1155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0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2492280"/>
                    <a:ext cx="64818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32" descr=""/>
          <p:cNvPicPr/>
          <p:nvPr/>
        </p:nvPicPr>
        <p:blipFill>
          <a:blip r:embed="rId10"/>
          <a:stretch/>
        </p:blipFill>
        <p:spPr>
          <a:xfrm>
            <a:off x="5508720" y="1700280"/>
            <a:ext cx="333684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1"/>
          <p:cNvGraphicFramePr/>
          <p:nvPr/>
        </p:nvGraphicFramePr>
        <p:xfrm>
          <a:off x="900000" y="2997360"/>
          <a:ext cx="6400800" cy="10252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14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2997360"/>
                    <a:ext cx="6400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1"/>
          <p:cNvGraphicFramePr/>
          <p:nvPr/>
        </p:nvGraphicFramePr>
        <p:xfrm>
          <a:off x="690480" y="3497400"/>
          <a:ext cx="6303960" cy="13636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16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3497400"/>
                    <a:ext cx="6303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31"/>
          <p:cNvGraphicFramePr/>
          <p:nvPr/>
        </p:nvGraphicFramePr>
        <p:xfrm>
          <a:off x="1619280" y="4221000"/>
          <a:ext cx="6240600" cy="16527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18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19280" y="4221000"/>
                    <a:ext cx="62406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31"/>
          <p:cNvGraphicFramePr/>
          <p:nvPr/>
        </p:nvGraphicFramePr>
        <p:xfrm>
          <a:off x="900000" y="4797360"/>
          <a:ext cx="6239160" cy="17654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220" name="Object 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4797360"/>
                    <a:ext cx="62391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4" name="Object 4"/>
          <p:cNvGraphicFramePr/>
          <p:nvPr/>
        </p:nvGraphicFramePr>
        <p:xfrm>
          <a:off x="898560" y="770040"/>
          <a:ext cx="7667640" cy="21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770040"/>
                    <a:ext cx="7667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4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Object 31"/>
          <p:cNvGraphicFramePr/>
          <p:nvPr/>
        </p:nvGraphicFramePr>
        <p:xfrm>
          <a:off x="684360" y="2637000"/>
          <a:ext cx="6480000" cy="3159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5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637000"/>
                    <a:ext cx="648000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Picture 32" descr=""/>
          <p:cNvPicPr/>
          <p:nvPr/>
        </p:nvPicPr>
        <p:blipFill>
          <a:blip r:embed="rId10"/>
          <a:stretch/>
        </p:blipFill>
        <p:spPr>
          <a:xfrm>
            <a:off x="5292720" y="1557360"/>
            <a:ext cx="3336840" cy="2879640"/>
          </a:xfrm>
          <a:prstGeom prst="rect">
            <a:avLst/>
          </a:prstGeom>
          <a:ln w="0">
            <a:noFill/>
          </a:ln>
        </p:spPr>
      </p:pic>
      <p:sp>
        <p:nvSpPr>
          <p:cNvPr id="247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116720" y="145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93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7"/>
          <p:cNvGraphicFramePr/>
          <p:nvPr/>
        </p:nvGraphicFramePr>
        <p:xfrm>
          <a:off x="3708360" y="981000"/>
          <a:ext cx="3024360" cy="1373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981000"/>
                    <a:ext cx="3024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8"/>
          <p:cNvSpPr/>
          <p:nvPr/>
        </p:nvSpPr>
        <p:spPr>
          <a:xfrm>
            <a:off x="7058160" y="1557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分段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632960" y="23554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的连续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009440" y="30268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因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4932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28"/>
          <p:cNvGraphicFramePr/>
          <p:nvPr/>
        </p:nvGraphicFramePr>
        <p:xfrm>
          <a:off x="2411280" y="2997360"/>
          <a:ext cx="1478160" cy="53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2997360"/>
                    <a:ext cx="1478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4"/>
          <p:cNvSpPr/>
          <p:nvPr/>
        </p:nvSpPr>
        <p:spPr>
          <a:xfrm>
            <a:off x="4932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29"/>
          <p:cNvGraphicFramePr/>
          <p:nvPr/>
        </p:nvGraphicFramePr>
        <p:xfrm>
          <a:off x="2411280" y="3606840"/>
          <a:ext cx="3141720" cy="79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2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11280" y="3606840"/>
                    <a:ext cx="31417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7"/>
          <p:cNvSpPr/>
          <p:nvPr/>
        </p:nvSpPr>
        <p:spPr>
          <a:xfrm>
            <a:off x="49320" y="32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0"/>
          <p:cNvGraphicFramePr/>
          <p:nvPr/>
        </p:nvGraphicFramePr>
        <p:xfrm>
          <a:off x="2411280" y="4521240"/>
          <a:ext cx="2089440" cy="56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4521240"/>
                    <a:ext cx="2089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18"/>
          <p:cNvSpPr/>
          <p:nvPr/>
        </p:nvSpPr>
        <p:spPr>
          <a:xfrm>
            <a:off x="2430360" y="523656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该分段函数在分段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是连续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98720" y="1414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分段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9" name="Object 3"/>
          <p:cNvGraphicFramePr/>
          <p:nvPr/>
        </p:nvGraphicFramePr>
        <p:xfrm>
          <a:off x="971640" y="3500280"/>
          <a:ext cx="6913440" cy="205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500280"/>
                    <a:ext cx="691344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矩形 47"/>
          <p:cNvSpPr/>
          <p:nvPr/>
        </p:nvSpPr>
        <p:spPr>
          <a:xfrm>
            <a:off x="3565080" y="44280"/>
            <a:ext cx="38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函数连续性的概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3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初等函数的连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8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29"/>
          <p:cNvGraphicFramePr/>
          <p:nvPr/>
        </p:nvGraphicFramePr>
        <p:xfrm>
          <a:off x="684360" y="907920"/>
          <a:ext cx="7580160" cy="240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907920"/>
                    <a:ext cx="75801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4:33Z</dcterms:modified>
  <cp:revision>84</cp:revision>
  <dc:subject/>
  <dc:title>幻灯片 1</dc:title>
</cp:coreProperties>
</file>